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B8F4-E8DB-4989-A33E-CA8773DB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9281-A711-48E2-8E29-134CB9DF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85EB-6222-4B4C-9338-847AFBBE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1D58-858F-4C2C-9E95-50D612BE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448-19AA-4A47-854F-3C1E4474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EA1-1C41-4EF2-9E37-B174B510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E4D-5AA0-489C-A0A3-DF94E49F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694A-00E2-4B4A-9ED5-BD07DD94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3FB-4739-4A62-9AD5-8BDE2A20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4CF-7C20-4870-837C-C626F760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C42-43B8-4AE4-8EB7-D23C27D9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75C-2CD3-4C9D-A04B-BB3AF6F9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D13C-A2B7-480C-832B-831EDAB13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Reggies Five Star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Ice-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38440" y="4452480"/>
            <a:ext cx="7022880" cy="18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 is so great about my ice-cream is that it is made in a restaurant. It is made with 100%thick cream. Eat up um um delicious. It is very creamy icy, hard , and soft. We just don’t sell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788240" y="0"/>
            <a:ext cx="2371680" cy="238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25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